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9C7C4-8230-47D2-A770-78AE3A416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74E81-DFA7-4A93-A408-28CF66226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61810-9088-405A-B463-C1650AEC4D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F605F-0C6B-4E5F-AF79-A5B9A20DE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A4440-E033-4A7B-9FDE-D1B61C333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473D0-B854-4529-9B78-9CB9E6D16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324DB-4571-49DD-B66C-1D1475138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9CEE6-E59F-44E9-8890-36111CAB3F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91CA5-E6AD-44B8-A8E0-B890B76F0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0A506-93A9-4E43-B08D-D8510ED50B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564CF-855B-4B3E-811F-5468A92880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8086E-338C-4D1A-B4C7-5DEC52649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237AF-C630-4D71-A483-0735A5086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10859-447A-4E5B-B284-D47465830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9E625-909D-4AB3-A9CA-21D9BFBA3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A9FAB-B8D0-4A77-84A0-C058F56F2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9CF3E-3B20-4ABC-A226-76290346F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3F8F4-6F23-4D67-88FF-CD9DA77BA3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BC203-0D0A-4232-B316-FBEF55006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2C52B-BCD7-459D-90DA-F27510FEE5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5310A-D5EE-449D-AE4D-F82BCA29DB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7A6D6-C189-4780-A65B-3FC8A1284F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09148-8D10-4E5E-920A-49A4ACCEBF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8C5E-F025-4B08-9A8A-FCC58D1DC99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B3DC-5747-4997-AC0E-9B860F45385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E92E-DCCF-4B2E-8499-68D4D988DC6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6862-13EA-40C3-AC67-D83117645D4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EA09-4CFB-4599-8BD3-C29C8A7E920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0699-9AA3-4E73-A1DB-94255A12212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4F57-41DC-45AD-B0CA-286A30BEF4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50527-85EA-483D-8C95-0C2B704377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A4B9-FB2A-4087-A722-D4169808610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F5C0-DEB0-4370-B217-E9324EBDA58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8A7F-79A6-4C0B-8F1C-B3CB1E5AB22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7812-6E40-4E75-AD64-89716DD155D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F9DA-8DB3-4577-A24C-35A028A44D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C3622-C1DD-487B-B8AD-D4223D50BA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2EF49-8607-435C-8DC4-33DF6C10B4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28EDE-C6DC-4306-B232-6FB1E8EC34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2DFEB-62C6-484E-ADDA-BBC52B4A19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81F81-9CEC-49E1-82EF-5C0774D3AC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A6500-3519-42A6-A6ED-96E67101C4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FF82A-0864-45A9-9284-416C8FCF6C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91FFA-D6E7-4F98-A98D-38929DE4D5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973EC-B706-4AF4-B43A-EB14708DC7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3581280" y="1828800"/>
            <a:ext cx="495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Quality Manual Structure and Contents - op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377B5-6623-4A1B-B95B-E2460F82AAB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job descriptions, including qualification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organizational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cruitment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ntern and studen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4.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B9E68-E5D3-411C-B082-05C712EFD1F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5. Document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nagement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finalizing document: verification, printing, signature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fidentialit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, arch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roducing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ist of reference document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273A5-DA49-4D0A-A408-1F324D48F34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6. Accommodation and Environ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p of the laboratory pre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stricted points of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aboratory signs or othe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nvironmental requirements for the laboratory (size, temperature, water, electrical, airf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tolerated uncertain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32BFD-5122-4C55-BCFC-D0E8D57B5DE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7. Instruments, Reagents, and Consumables Managem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pecify that each instrument requires written procedures, maintenance, quality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rdering and rece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sumables or supplies – defin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CDF60-B716-42C7-B6C1-C0CDC017496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8. 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samples and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is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r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zardous chemical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waste dis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er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oduct lab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2E17F-C1EE-489C-9743-15FA46C7AF1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9. Preexamination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3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atient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dentification of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liquoting and pretreatment of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EA8D2-FF11-49AA-B49E-72C7302D0C4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0. 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152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agent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calibration / 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/testing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valida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12EB8-48C4-41D9-9C6A-6C5DA5630C8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1. Post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nal biological 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inting/copying report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mission of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ling (archiving)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lationships with disease surveillance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9EB65-532F-444D-9547-5A834DCABFA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2. Quality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minder of 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ink to control 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ersonnel competen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ummary of all QC procedures and links to the appropriate sections in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2AC0F-E8DE-4853-B70A-8C85B0F5B36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3. Corrective/Preventive Actions, Internal Audit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ntinuous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viewing and understanding all problems an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internal audits ar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quired under the ISO 15189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6AE4D-3228-41F3-88B2-EB017808AC7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362320" y="1066680"/>
            <a:ext cx="5029200" cy="5105520"/>
            <a:chOff x="2362320" y="1066680"/>
            <a:chExt cx="5029200" cy="5105520"/>
          </a:xfrm>
        </p:grpSpPr>
        <p:sp>
          <p:nvSpPr>
            <p:cNvPr id="131" name="AutoShape 4"/>
            <p:cNvSpPr/>
            <p:nvPr/>
          </p:nvSpPr>
          <p:spPr>
            <a:xfrm>
              <a:off x="2362320" y="1066680"/>
              <a:ext cx="5029200" cy="510552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520"/>
                <a:gd name="textAreaBottom" fmla="*/ 4860000 h 5105520"/>
              </a:gdLst>
              <a:ahLst/>
              <a:rect l="textAreaLeft" t="textAreaTop" r="textAreaRight" b="textAreaBottom"/>
              <a:pathLst>
                <a:path w="21600" h="21928">
                  <a:moveTo>
                    <a:pt x="3600" y="0"/>
                  </a:moveTo>
                  <a:arcTo wR="3600" hR="3600" stAng="16200000" swAng="-5400000"/>
                  <a:lnTo>
                    <a:pt x="0" y="18328"/>
                  </a:lnTo>
                  <a:arcTo wR="3600" hR="3600" stAng="10800000" swAng="-5400000"/>
                  <a:lnTo>
                    <a:pt x="18000" y="219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4540680" y="375372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6"/>
            <p:cNvSpPr/>
            <p:nvPr/>
          </p:nvSpPr>
          <p:spPr>
            <a:xfrm>
              <a:off x="3215880" y="314820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2"/>
            <p:cNvSpPr/>
            <p:nvPr/>
          </p:nvSpPr>
          <p:spPr>
            <a:xfrm>
              <a:off x="3205080" y="308880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4"/>
            <p:cNvSpPr/>
            <p:nvPr/>
          </p:nvSpPr>
          <p:spPr>
            <a:xfrm flipH="1" flipV="1">
              <a:off x="4938480" y="579168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5"/>
            <p:cNvSpPr/>
            <p:nvPr/>
          </p:nvSpPr>
          <p:spPr>
            <a:xfrm flipV="1">
              <a:off x="4683960" y="468576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7"/>
            <p:cNvSpPr/>
            <p:nvPr/>
          </p:nvSpPr>
          <p:spPr>
            <a:xfrm>
              <a:off x="6429600" y="169524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7"/>
            <p:cNvSpPr/>
            <p:nvPr/>
          </p:nvSpPr>
          <p:spPr>
            <a:xfrm>
              <a:off x="4876560" y="184536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3249720" y="189216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 flipH="1">
              <a:off x="2953800" y="174060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65"/>
            <p:cNvGrpSpPr/>
            <p:nvPr/>
          </p:nvGrpSpPr>
          <p:grpSpPr>
            <a:xfrm>
              <a:off x="2657880" y="1154160"/>
              <a:ext cx="1224360" cy="1122840"/>
              <a:chOff x="2657880" y="1154160"/>
              <a:chExt cx="1224360" cy="1122840"/>
            </a:xfrm>
          </p:grpSpPr>
          <p:grpSp>
            <p:nvGrpSpPr>
              <p:cNvPr id="146" name="Group 66"/>
              <p:cNvGrpSpPr/>
              <p:nvPr/>
            </p:nvGrpSpPr>
            <p:grpSpPr>
              <a:xfrm>
                <a:off x="2657880" y="1154160"/>
                <a:ext cx="1202400" cy="1122840"/>
                <a:chOff x="2657880" y="1154160"/>
                <a:chExt cx="1202400" cy="1122840"/>
              </a:xfrm>
            </p:grpSpPr>
            <p:grpSp>
              <p:nvGrpSpPr>
                <p:cNvPr id="147" name="Group 67"/>
                <p:cNvGrpSpPr/>
                <p:nvPr/>
              </p:nvGrpSpPr>
              <p:grpSpPr>
                <a:xfrm>
                  <a:off x="2707920" y="1154160"/>
                  <a:ext cx="1118520" cy="1122840"/>
                  <a:chOff x="2707920" y="1154160"/>
                  <a:chExt cx="1118520" cy="1122840"/>
                </a:xfrm>
              </p:grpSpPr>
              <p:sp>
                <p:nvSpPr>
                  <p:cNvPr id="148" name="Freeform 68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69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70"/>
                <p:cNvSpPr/>
                <p:nvPr/>
              </p:nvSpPr>
              <p:spPr>
                <a:xfrm>
                  <a:off x="2657880" y="141300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Text Box 71"/>
              <p:cNvSpPr/>
              <p:nvPr/>
            </p:nvSpPr>
            <p:spPr>
              <a:xfrm>
                <a:off x="2679840" y="155232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72"/>
            <p:cNvGrpSpPr/>
            <p:nvPr/>
          </p:nvGrpSpPr>
          <p:grpSpPr>
            <a:xfrm>
              <a:off x="4264920" y="1154160"/>
              <a:ext cx="1203120" cy="1122840"/>
              <a:chOff x="4264920" y="1154160"/>
              <a:chExt cx="1203120" cy="1122840"/>
            </a:xfrm>
          </p:grpSpPr>
          <p:sp>
            <p:nvSpPr>
              <p:cNvPr id="153" name="Freeform 73"/>
              <p:cNvSpPr/>
              <p:nvPr/>
            </p:nvSpPr>
            <p:spPr>
              <a:xfrm>
                <a:off x="4304520" y="115416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74"/>
              <p:cNvSpPr/>
              <p:nvPr/>
            </p:nvSpPr>
            <p:spPr>
              <a:xfrm>
                <a:off x="4264920" y="155232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5"/>
            <p:cNvGrpSpPr/>
            <p:nvPr/>
          </p:nvGrpSpPr>
          <p:grpSpPr>
            <a:xfrm>
              <a:off x="5818320" y="1154160"/>
              <a:ext cx="1203120" cy="1122840"/>
              <a:chOff x="5818320" y="1154160"/>
              <a:chExt cx="1203120" cy="1122840"/>
            </a:xfrm>
          </p:grpSpPr>
          <p:grpSp>
            <p:nvGrpSpPr>
              <p:cNvPr id="156" name="Group 76"/>
              <p:cNvGrpSpPr/>
              <p:nvPr/>
            </p:nvGrpSpPr>
            <p:grpSpPr>
              <a:xfrm>
                <a:off x="5862240" y="1154160"/>
                <a:ext cx="1118880" cy="1122840"/>
                <a:chOff x="5862240" y="1154160"/>
                <a:chExt cx="1118880" cy="1122840"/>
              </a:xfrm>
            </p:grpSpPr>
            <p:sp>
              <p:nvSpPr>
                <p:cNvPr id="157" name="Freeform 77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78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79"/>
              <p:cNvSpPr/>
              <p:nvPr/>
            </p:nvSpPr>
            <p:spPr>
              <a:xfrm>
                <a:off x="5818320" y="155664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3027960" y="30171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657880" y="2418120"/>
              <a:ext cx="1204920" cy="1122840"/>
              <a:chOff x="2657880" y="2418120"/>
              <a:chExt cx="1204920" cy="1122840"/>
            </a:xfrm>
          </p:grpSpPr>
          <p:sp>
            <p:nvSpPr>
              <p:cNvPr id="162" name="Freeform 46"/>
              <p:cNvSpPr/>
              <p:nvPr/>
            </p:nvSpPr>
            <p:spPr>
              <a:xfrm>
                <a:off x="2662200" y="241812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47"/>
              <p:cNvSpPr/>
              <p:nvPr/>
            </p:nvSpPr>
            <p:spPr>
              <a:xfrm>
                <a:off x="2657880" y="268848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Freeform 31"/>
            <p:cNvSpPr/>
            <p:nvPr/>
          </p:nvSpPr>
          <p:spPr>
            <a:xfrm>
              <a:off x="4312440" y="247716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43"/>
            <p:cNvSpPr/>
            <p:nvPr/>
          </p:nvSpPr>
          <p:spPr>
            <a:xfrm>
              <a:off x="4351320" y="249300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5763960" y="2435040"/>
              <a:ext cx="1297080" cy="1122840"/>
              <a:chOff x="5763960" y="2435040"/>
              <a:chExt cx="1297080" cy="1122840"/>
            </a:xfrm>
          </p:grpSpPr>
          <p:sp>
            <p:nvSpPr>
              <p:cNvPr id="167" name="Freeform 48"/>
              <p:cNvSpPr/>
              <p:nvPr/>
            </p:nvSpPr>
            <p:spPr>
              <a:xfrm>
                <a:off x="5837760" y="24350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55"/>
              <p:cNvSpPr/>
              <p:nvPr/>
            </p:nvSpPr>
            <p:spPr>
              <a:xfrm>
                <a:off x="5763960" y="271800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953800" y="42199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657880" y="3700800"/>
              <a:ext cx="1203120" cy="1124280"/>
              <a:chOff x="2657880" y="3700800"/>
              <a:chExt cx="1203120" cy="1124280"/>
            </a:xfrm>
          </p:grpSpPr>
          <p:sp>
            <p:nvSpPr>
              <p:cNvPr id="171" name="Freeform 81"/>
              <p:cNvSpPr/>
              <p:nvPr/>
            </p:nvSpPr>
            <p:spPr>
              <a:xfrm>
                <a:off x="2688840" y="370080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82"/>
              <p:cNvSpPr/>
              <p:nvPr/>
            </p:nvSpPr>
            <p:spPr>
              <a:xfrm>
                <a:off x="2657880" y="39193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64920" y="3700800"/>
              <a:ext cx="1203120" cy="1124280"/>
              <a:chOff x="4264920" y="3700800"/>
              <a:chExt cx="1203120" cy="1124280"/>
            </a:xfrm>
          </p:grpSpPr>
          <p:sp>
            <p:nvSpPr>
              <p:cNvPr id="174" name="Freeform 30"/>
              <p:cNvSpPr/>
              <p:nvPr/>
            </p:nvSpPr>
            <p:spPr>
              <a:xfrm>
                <a:off x="4290840" y="370080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4"/>
              <p:cNvSpPr/>
              <p:nvPr/>
            </p:nvSpPr>
            <p:spPr>
              <a:xfrm>
                <a:off x="4264920" y="3936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50"/>
            <p:cNvSpPr/>
            <p:nvPr/>
          </p:nvSpPr>
          <p:spPr>
            <a:xfrm>
              <a:off x="5838120" y="369432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51"/>
            <p:cNvSpPr/>
            <p:nvPr/>
          </p:nvSpPr>
          <p:spPr>
            <a:xfrm>
              <a:off x="5818320" y="376956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7"/>
            <p:cNvSpPr/>
            <p:nvPr/>
          </p:nvSpPr>
          <p:spPr>
            <a:xfrm flipH="1">
              <a:off x="3027960" y="549468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2584080" y="4973760"/>
              <a:ext cx="1378800" cy="1122840"/>
              <a:chOff x="2584080" y="4973760"/>
              <a:chExt cx="1378800" cy="1122840"/>
            </a:xfrm>
          </p:grpSpPr>
          <p:sp>
            <p:nvSpPr>
              <p:cNvPr id="180" name="Freeform 57"/>
              <p:cNvSpPr/>
              <p:nvPr/>
            </p:nvSpPr>
            <p:spPr>
              <a:xfrm>
                <a:off x="2728440" y="497376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8"/>
              <p:cNvSpPr/>
              <p:nvPr/>
            </p:nvSpPr>
            <p:spPr>
              <a:xfrm>
                <a:off x="2584080" y="519552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4264920" y="4909680"/>
              <a:ext cx="1203120" cy="1123200"/>
              <a:chOff x="4264920" y="4909680"/>
              <a:chExt cx="1203120" cy="1123200"/>
            </a:xfrm>
          </p:grpSpPr>
          <p:sp>
            <p:nvSpPr>
              <p:cNvPr id="183" name="Freeform 34"/>
              <p:cNvSpPr/>
              <p:nvPr/>
            </p:nvSpPr>
            <p:spPr>
              <a:xfrm>
                <a:off x="4312080" y="490968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61"/>
              <p:cNvSpPr/>
              <p:nvPr/>
            </p:nvSpPr>
            <p:spPr>
              <a:xfrm>
                <a:off x="4264920" y="519588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838120" y="4973760"/>
              <a:ext cx="1203120" cy="1122840"/>
              <a:chOff x="5838120" y="4973760"/>
              <a:chExt cx="1203120" cy="1122840"/>
            </a:xfrm>
          </p:grpSpPr>
          <p:sp>
            <p:nvSpPr>
              <p:cNvPr id="186" name="Freeform 63"/>
              <p:cNvSpPr/>
              <p:nvPr/>
            </p:nvSpPr>
            <p:spPr>
              <a:xfrm>
                <a:off x="5856480" y="497376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4"/>
              <p:cNvSpPr/>
              <p:nvPr/>
            </p:nvSpPr>
            <p:spPr>
              <a:xfrm>
                <a:off x="5838120" y="51955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F949F-24B9-4693-8323-FC03CFCF6A9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ructure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Manual (Specify Polic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3124440" cy="293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AC2F8-1620-4F79-A203-D2366EDA002E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Documen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3"/>
          <p:cNvGrpSpPr/>
          <p:nvPr/>
        </p:nvGrpSpPr>
        <p:grpSpPr>
          <a:xfrm>
            <a:off x="4343400" y="4038480"/>
            <a:ext cx="2819160" cy="1981440"/>
            <a:chOff x="4343400" y="4038480"/>
            <a:chExt cx="2819160" cy="1981440"/>
          </a:xfrm>
        </p:grpSpPr>
        <p:sp>
          <p:nvSpPr>
            <p:cNvPr id="238" name="Text Box 4"/>
            <p:cNvSpPr/>
            <p:nvPr/>
          </p:nvSpPr>
          <p:spPr>
            <a:xfrm>
              <a:off x="5410080" y="4038480"/>
              <a:ext cx="76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>
              <a:off x="4343400" y="4038480"/>
              <a:ext cx="28191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>
              <a:off x="4419360" y="4419720"/>
              <a:ext cx="1295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>
              <a:off x="5790960" y="4495680"/>
              <a:ext cx="1295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4495680" y="472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5790960" y="4616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pecific S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0"/>
          <p:cNvGrpSpPr/>
          <p:nvPr/>
        </p:nvGrpSpPr>
        <p:grpSpPr>
          <a:xfrm>
            <a:off x="2971800" y="1676520"/>
            <a:ext cx="1523880" cy="1066680"/>
            <a:chOff x="2971800" y="1676520"/>
            <a:chExt cx="1523880" cy="1066680"/>
          </a:xfrm>
        </p:grpSpPr>
        <p:sp>
          <p:nvSpPr>
            <p:cNvPr id="245" name="Oval 11"/>
            <p:cNvSpPr/>
            <p:nvPr/>
          </p:nvSpPr>
          <p:spPr>
            <a:xfrm>
              <a:off x="2971800" y="16765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2"/>
            <p:cNvSpPr/>
            <p:nvPr/>
          </p:nvSpPr>
          <p:spPr>
            <a:xfrm>
              <a:off x="297180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anu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3"/>
          <p:cNvGrpSpPr/>
          <p:nvPr/>
        </p:nvGrpSpPr>
        <p:grpSpPr>
          <a:xfrm>
            <a:off x="1143000" y="3886200"/>
            <a:ext cx="1371600" cy="1066680"/>
            <a:chOff x="1143000" y="3886200"/>
            <a:chExt cx="1371600" cy="1066680"/>
          </a:xfrm>
        </p:grpSpPr>
        <p:sp>
          <p:nvSpPr>
            <p:cNvPr id="248" name="Text Box 14"/>
            <p:cNvSpPr/>
            <p:nvPr/>
          </p:nvSpPr>
          <p:spPr>
            <a:xfrm>
              <a:off x="1295640" y="4191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oo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1143000" y="388620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1600200" y="2514600"/>
            <a:ext cx="1295280" cy="1066680"/>
            <a:chOff x="1600200" y="2514600"/>
            <a:chExt cx="1295280" cy="1066680"/>
          </a:xfrm>
        </p:grpSpPr>
        <p:sp>
          <p:nvSpPr>
            <p:cNvPr id="251" name="Text Box 17"/>
            <p:cNvSpPr/>
            <p:nvPr/>
          </p:nvSpPr>
          <p:spPr>
            <a:xfrm>
              <a:off x="1676160" y="2819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rti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8"/>
            <p:cNvSpPr/>
            <p:nvPr/>
          </p:nvSpPr>
          <p:spPr>
            <a:xfrm>
              <a:off x="1600200" y="25146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9"/>
          <p:cNvGrpSpPr/>
          <p:nvPr/>
        </p:nvGrpSpPr>
        <p:grpSpPr>
          <a:xfrm>
            <a:off x="4495680" y="1371600"/>
            <a:ext cx="1523880" cy="1038240"/>
            <a:chOff x="4495680" y="1371600"/>
            <a:chExt cx="1523880" cy="1038240"/>
          </a:xfrm>
        </p:grpSpPr>
        <p:sp>
          <p:nvSpPr>
            <p:cNvPr id="254" name="Text Box 20"/>
            <p:cNvSpPr/>
            <p:nvPr/>
          </p:nvSpPr>
          <p:spPr>
            <a:xfrm>
              <a:off x="4495680" y="1571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s and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21"/>
            <p:cNvSpPr/>
            <p:nvPr/>
          </p:nvSpPr>
          <p:spPr>
            <a:xfrm>
              <a:off x="4552920" y="1371600"/>
              <a:ext cx="144756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2"/>
          <p:cNvGrpSpPr/>
          <p:nvPr/>
        </p:nvGrpSpPr>
        <p:grpSpPr>
          <a:xfrm>
            <a:off x="1371600" y="5257800"/>
            <a:ext cx="1523880" cy="1066680"/>
            <a:chOff x="1371600" y="5257800"/>
            <a:chExt cx="1523880" cy="1066680"/>
          </a:xfrm>
        </p:grpSpPr>
        <p:sp>
          <p:nvSpPr>
            <p:cNvPr id="257" name="Oval 23"/>
            <p:cNvSpPr/>
            <p:nvPr/>
          </p:nvSpPr>
          <p:spPr>
            <a:xfrm>
              <a:off x="1476000" y="52578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4"/>
            <p:cNvSpPr/>
            <p:nvPr/>
          </p:nvSpPr>
          <p:spPr>
            <a:xfrm>
              <a:off x="1371600" y="5562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Line 25"/>
          <p:cNvSpPr/>
          <p:nvPr/>
        </p:nvSpPr>
        <p:spPr>
          <a:xfrm flipH="1">
            <a:off x="2819520" y="541008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6"/>
          <p:cNvSpPr/>
          <p:nvPr/>
        </p:nvSpPr>
        <p:spPr>
          <a:xfrm flipH="1" flipV="1">
            <a:off x="2438280" y="449568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7"/>
          <p:cNvSpPr/>
          <p:nvPr/>
        </p:nvSpPr>
        <p:spPr>
          <a:xfrm flipV="1">
            <a:off x="5105520" y="2438280"/>
            <a:ext cx="7596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8"/>
          <p:cNvSpPr/>
          <p:nvPr/>
        </p:nvSpPr>
        <p:spPr>
          <a:xfrm flipH="1" flipV="1">
            <a:off x="2895120" y="3428640"/>
            <a:ext cx="3124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9"/>
          <p:cNvSpPr/>
          <p:nvPr/>
        </p:nvSpPr>
        <p:spPr>
          <a:xfrm flipH="1" flipV="1">
            <a:off x="3885840" y="2666880"/>
            <a:ext cx="2438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0"/>
          <p:cNvSpPr/>
          <p:nvPr/>
        </p:nvSpPr>
        <p:spPr>
          <a:xfrm flipH="1" flipV="1">
            <a:off x="2743200" y="350496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1"/>
          <p:cNvSpPr/>
          <p:nvPr/>
        </p:nvSpPr>
        <p:spPr>
          <a:xfrm flipH="1" flipV="1">
            <a:off x="5409720" y="24379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2"/>
          <p:cNvSpPr/>
          <p:nvPr/>
        </p:nvSpPr>
        <p:spPr>
          <a:xfrm flipH="1">
            <a:off x="2514240" y="5257800"/>
            <a:ext cx="1981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3"/>
          <p:cNvSpPr/>
          <p:nvPr/>
        </p:nvSpPr>
        <p:spPr>
          <a:xfrm flipH="1" flipV="1">
            <a:off x="2361960" y="4800240"/>
            <a:ext cx="3429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172200" y="2144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o avoid overloading the 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ocumentation list + simple numb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Links to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C4F53-953E-4CAE-832B-55EE55A5BFE9}" type="slidenum">
              <a:t>21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re is only ONE official version of the Quality M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is never finished; it is always being impro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read, understood, and accepted by every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written in clear, easily-understood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should be dated and signed by man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ndardized page-headers should be used, and the version of each procedure should be no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veloping a quality manual is a very big job, but it is also very rewarding and useful for the labora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8C5C2-4C23-4C39-AE83-2EB6FBB5395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5000" y="68544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57200" y="762120"/>
            <a:ext cx="5029200" cy="5105160"/>
            <a:chOff x="457200" y="762120"/>
            <a:chExt cx="5029200" cy="5105160"/>
          </a:xfrm>
        </p:grpSpPr>
        <p:sp>
          <p:nvSpPr>
            <p:cNvPr id="273" name="AutoShape 4"/>
            <p:cNvSpPr/>
            <p:nvPr/>
          </p:nvSpPr>
          <p:spPr>
            <a:xfrm>
              <a:off x="457200" y="762120"/>
              <a:ext cx="5029200" cy="510516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160"/>
                <a:gd name="textAreaBottom" fmla="*/ 4859640 h 5105160"/>
              </a:gdLst>
              <a:ahLst/>
              <a:rect l="textAreaLeft" t="textAreaTop" r="textAreaRight" b="textAreaBottom"/>
              <a:pathLst>
                <a:path w="21600" h="21926">
                  <a:moveTo>
                    <a:pt x="3600" y="0"/>
                  </a:moveTo>
                  <a:arcTo wR="3600" hR="3600" stAng="16200000" swAng="-5400000"/>
                  <a:lnTo>
                    <a:pt x="0" y="18326"/>
                  </a:lnTo>
                  <a:arcTo wR="3600" hR="3600" stAng="10800000" swAng="-5400000"/>
                  <a:lnTo>
                    <a:pt x="18000" y="219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9"/>
            <p:cNvSpPr/>
            <p:nvPr/>
          </p:nvSpPr>
          <p:spPr>
            <a:xfrm>
              <a:off x="2635560" y="344916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6"/>
            <p:cNvSpPr/>
            <p:nvPr/>
          </p:nvSpPr>
          <p:spPr>
            <a:xfrm>
              <a:off x="1310760" y="284364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2"/>
            <p:cNvSpPr/>
            <p:nvPr/>
          </p:nvSpPr>
          <p:spPr>
            <a:xfrm>
              <a:off x="1299960" y="278424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24"/>
            <p:cNvSpPr/>
            <p:nvPr/>
          </p:nvSpPr>
          <p:spPr>
            <a:xfrm flipH="1" flipV="1">
              <a:off x="3033360" y="548676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5"/>
            <p:cNvSpPr/>
            <p:nvPr/>
          </p:nvSpPr>
          <p:spPr>
            <a:xfrm flipV="1">
              <a:off x="2778840" y="438084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7"/>
            <p:cNvSpPr/>
            <p:nvPr/>
          </p:nvSpPr>
          <p:spPr>
            <a:xfrm>
              <a:off x="4524480" y="139032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7"/>
            <p:cNvSpPr/>
            <p:nvPr/>
          </p:nvSpPr>
          <p:spPr>
            <a:xfrm>
              <a:off x="2971440" y="1540800"/>
              <a:ext cx="144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7"/>
            <p:cNvSpPr/>
            <p:nvPr/>
          </p:nvSpPr>
          <p:spPr>
            <a:xfrm>
              <a:off x="1344600" y="1587600"/>
              <a:ext cx="108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7"/>
            <p:cNvSpPr/>
            <p:nvPr/>
          </p:nvSpPr>
          <p:spPr>
            <a:xfrm flipH="1">
              <a:off x="1048680" y="143604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65"/>
            <p:cNvGrpSpPr/>
            <p:nvPr/>
          </p:nvGrpSpPr>
          <p:grpSpPr>
            <a:xfrm>
              <a:off x="752760" y="849600"/>
              <a:ext cx="1224360" cy="1122840"/>
              <a:chOff x="752760" y="849600"/>
              <a:chExt cx="1224360" cy="1122840"/>
            </a:xfrm>
          </p:grpSpPr>
          <p:grpSp>
            <p:nvGrpSpPr>
              <p:cNvPr id="288" name="Group 66"/>
              <p:cNvGrpSpPr/>
              <p:nvPr/>
            </p:nvGrpSpPr>
            <p:grpSpPr>
              <a:xfrm>
                <a:off x="752760" y="849600"/>
                <a:ext cx="1202400" cy="1122840"/>
                <a:chOff x="752760" y="849600"/>
                <a:chExt cx="1202400" cy="112284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802800" y="849600"/>
                  <a:ext cx="1118520" cy="1122840"/>
                  <a:chOff x="802800" y="849600"/>
                  <a:chExt cx="1118520" cy="1122840"/>
                </a:xfrm>
              </p:grpSpPr>
              <p:sp>
                <p:nvSpPr>
                  <p:cNvPr id="290" name="Freeform 68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Text Box 70"/>
                <p:cNvSpPr/>
                <p:nvPr/>
              </p:nvSpPr>
              <p:spPr>
                <a:xfrm>
                  <a:off x="752760" y="110844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Text Box 71"/>
              <p:cNvSpPr/>
              <p:nvPr/>
            </p:nvSpPr>
            <p:spPr>
              <a:xfrm>
                <a:off x="774720" y="124776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72"/>
            <p:cNvGrpSpPr/>
            <p:nvPr/>
          </p:nvGrpSpPr>
          <p:grpSpPr>
            <a:xfrm>
              <a:off x="2359800" y="849600"/>
              <a:ext cx="1203120" cy="1122840"/>
              <a:chOff x="2359800" y="849600"/>
              <a:chExt cx="1203120" cy="1122840"/>
            </a:xfrm>
          </p:grpSpPr>
          <p:sp>
            <p:nvSpPr>
              <p:cNvPr id="295" name="Freeform 73"/>
              <p:cNvSpPr/>
              <p:nvPr/>
            </p:nvSpPr>
            <p:spPr>
              <a:xfrm>
                <a:off x="2399400" y="84960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74"/>
              <p:cNvSpPr/>
              <p:nvPr/>
            </p:nvSpPr>
            <p:spPr>
              <a:xfrm>
                <a:off x="2359800" y="124776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75"/>
            <p:cNvGrpSpPr/>
            <p:nvPr/>
          </p:nvGrpSpPr>
          <p:grpSpPr>
            <a:xfrm>
              <a:off x="3913200" y="849600"/>
              <a:ext cx="1203120" cy="1122840"/>
              <a:chOff x="3913200" y="849600"/>
              <a:chExt cx="1203120" cy="1122840"/>
            </a:xfrm>
          </p:grpSpPr>
          <p:grpSp>
            <p:nvGrpSpPr>
              <p:cNvPr id="298" name="Group 76"/>
              <p:cNvGrpSpPr/>
              <p:nvPr/>
            </p:nvGrpSpPr>
            <p:grpSpPr>
              <a:xfrm>
                <a:off x="3957120" y="849600"/>
                <a:ext cx="1118880" cy="1122840"/>
                <a:chOff x="3957120" y="849600"/>
                <a:chExt cx="1118880" cy="1122840"/>
              </a:xfrm>
            </p:grpSpPr>
            <p:sp>
              <p:nvSpPr>
                <p:cNvPr id="299" name="Freeform 77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78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Text Box 79"/>
              <p:cNvSpPr/>
              <p:nvPr/>
            </p:nvSpPr>
            <p:spPr>
              <a:xfrm>
                <a:off x="3913200" y="125208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Line 27"/>
            <p:cNvSpPr/>
            <p:nvPr/>
          </p:nvSpPr>
          <p:spPr>
            <a:xfrm flipH="1">
              <a:off x="1122840" y="271260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52760" y="2113200"/>
              <a:ext cx="1204920" cy="1122840"/>
              <a:chOff x="752760" y="2113200"/>
              <a:chExt cx="1204920" cy="1122840"/>
            </a:xfrm>
          </p:grpSpPr>
          <p:sp>
            <p:nvSpPr>
              <p:cNvPr id="304" name="Freeform 46"/>
              <p:cNvSpPr/>
              <p:nvPr/>
            </p:nvSpPr>
            <p:spPr>
              <a:xfrm>
                <a:off x="757080" y="211320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47"/>
              <p:cNvSpPr/>
              <p:nvPr/>
            </p:nvSpPr>
            <p:spPr>
              <a:xfrm>
                <a:off x="752760" y="238356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Freeform 31"/>
            <p:cNvSpPr/>
            <p:nvPr/>
          </p:nvSpPr>
          <p:spPr>
            <a:xfrm>
              <a:off x="2407320" y="217260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43"/>
            <p:cNvSpPr/>
            <p:nvPr/>
          </p:nvSpPr>
          <p:spPr>
            <a:xfrm>
              <a:off x="2446200" y="218808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858840" y="2130480"/>
              <a:ext cx="1297080" cy="1122840"/>
              <a:chOff x="3858840" y="2130480"/>
              <a:chExt cx="1297080" cy="1122840"/>
            </a:xfrm>
          </p:grpSpPr>
          <p:sp>
            <p:nvSpPr>
              <p:cNvPr id="309" name="Freeform 48"/>
              <p:cNvSpPr/>
              <p:nvPr/>
            </p:nvSpPr>
            <p:spPr>
              <a:xfrm>
                <a:off x="3932640" y="213048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 Box 55"/>
              <p:cNvSpPr/>
              <p:nvPr/>
            </p:nvSpPr>
            <p:spPr>
              <a:xfrm>
                <a:off x="3858840" y="241344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Line 27"/>
            <p:cNvSpPr/>
            <p:nvPr/>
          </p:nvSpPr>
          <p:spPr>
            <a:xfrm flipH="1">
              <a:off x="1048680" y="39153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752760" y="3395880"/>
              <a:ext cx="1203120" cy="1124280"/>
              <a:chOff x="752760" y="3395880"/>
              <a:chExt cx="1203120" cy="1124280"/>
            </a:xfrm>
          </p:grpSpPr>
          <p:sp>
            <p:nvSpPr>
              <p:cNvPr id="313" name="Freeform 81"/>
              <p:cNvSpPr/>
              <p:nvPr/>
            </p:nvSpPr>
            <p:spPr>
              <a:xfrm>
                <a:off x="783720" y="339588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82"/>
              <p:cNvSpPr/>
              <p:nvPr/>
            </p:nvSpPr>
            <p:spPr>
              <a:xfrm>
                <a:off x="752760" y="36144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359800" y="3395880"/>
              <a:ext cx="1203120" cy="1124280"/>
              <a:chOff x="2359800" y="3395880"/>
              <a:chExt cx="1203120" cy="1124280"/>
            </a:xfrm>
          </p:grpSpPr>
          <p:sp>
            <p:nvSpPr>
              <p:cNvPr id="316" name="Freeform 30"/>
              <p:cNvSpPr/>
              <p:nvPr/>
            </p:nvSpPr>
            <p:spPr>
              <a:xfrm>
                <a:off x="2385720" y="339588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54"/>
              <p:cNvSpPr/>
              <p:nvPr/>
            </p:nvSpPr>
            <p:spPr>
              <a:xfrm>
                <a:off x="2359800" y="363204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Freeform 50"/>
            <p:cNvSpPr/>
            <p:nvPr/>
          </p:nvSpPr>
          <p:spPr>
            <a:xfrm>
              <a:off x="3933000" y="338940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1"/>
            <p:cNvSpPr/>
            <p:nvPr/>
          </p:nvSpPr>
          <p:spPr>
            <a:xfrm>
              <a:off x="3913200" y="346464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 flipH="1">
              <a:off x="1122840" y="51901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78960" y="4668840"/>
              <a:ext cx="1378800" cy="1122840"/>
              <a:chOff x="678960" y="4668840"/>
              <a:chExt cx="1378800" cy="1122840"/>
            </a:xfrm>
          </p:grpSpPr>
          <p:sp>
            <p:nvSpPr>
              <p:cNvPr id="322" name="Freeform 57"/>
              <p:cNvSpPr/>
              <p:nvPr/>
            </p:nvSpPr>
            <p:spPr>
              <a:xfrm>
                <a:off x="823320" y="466884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58"/>
              <p:cNvSpPr/>
              <p:nvPr/>
            </p:nvSpPr>
            <p:spPr>
              <a:xfrm>
                <a:off x="678960" y="489060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359800" y="4604760"/>
              <a:ext cx="1203120" cy="1123200"/>
              <a:chOff x="2359800" y="4604760"/>
              <a:chExt cx="1203120" cy="1123200"/>
            </a:xfrm>
          </p:grpSpPr>
          <p:sp>
            <p:nvSpPr>
              <p:cNvPr id="325" name="Freeform 34"/>
              <p:cNvSpPr/>
              <p:nvPr/>
            </p:nvSpPr>
            <p:spPr>
              <a:xfrm>
                <a:off x="2406960" y="460476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61"/>
              <p:cNvSpPr/>
              <p:nvPr/>
            </p:nvSpPr>
            <p:spPr>
              <a:xfrm>
                <a:off x="2359800" y="4890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3933000" y="4668840"/>
              <a:ext cx="1203120" cy="1122840"/>
              <a:chOff x="3933000" y="4668840"/>
              <a:chExt cx="1203120" cy="1122840"/>
            </a:xfrm>
          </p:grpSpPr>
          <p:sp>
            <p:nvSpPr>
              <p:cNvPr id="328" name="Freeform 63"/>
              <p:cNvSpPr/>
              <p:nvPr/>
            </p:nvSpPr>
            <p:spPr>
              <a:xfrm>
                <a:off x="3951360" y="46688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64"/>
              <p:cNvSpPr/>
              <p:nvPr/>
            </p:nvSpPr>
            <p:spPr>
              <a:xfrm>
                <a:off x="3933000" y="48906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E32F9-DA88-41D5-AC7E-6EFDF70CFDB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riting a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O 15189 standards requirement, but style and structure are not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the policies for each of the twelve elements of the qualit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ach policy, state the goals and designate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tent of the manual must include the quality policies, with reference to process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914DE-8E36-4C32-BD7E-AC6762C7D17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宋体"/>
              </a:rPr>
              <a:t>Example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宋体"/>
              </a:rPr>
              <a:t>  Quality Manual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Organization and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poli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(staff education and training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ocument control, including records, maintenance and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ccommodation an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B2623-709F-4FB3-BD2E-8C16D9DCC68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struments, reagents, consumable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earch and develop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op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ost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DBF0C-6397-45E2-B83B-031229870FF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inform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complaints–occurrenc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ommunications and other inte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ventive and corrective action, internal au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95929-51A3-4EC1-95C7-AEAE97F78BF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’s field of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 upd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.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3581280"/>
            <a:ext cx="335304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092A5-06B4-42C2-88D0-96FF3BA4B52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escription of laboratory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egal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ourc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ssignment of responsibility /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2. Organization and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E3DD3-2E8A-4D8C-8143-C20BEE55386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3.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official declaration of a quality policy by appropriate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ssures that the laboratory director will designate a quality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efines the labora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2F446-28E2-43A6-AFA4-A9A6222C4EC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bergera</cp:lastModifiedBy>
  <dcterms:modified xsi:type="dcterms:W3CDTF">2009-05-19T09:59:24Z</dcterms:modified>
  <cp:revision>17</cp:revision>
  <dc:subject/>
  <dc:title>Example of Written Policy CLSI HS1</dc:title>
</cp:coreProperties>
</file>